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2FA123-CF5D-45DA-BD57-46E978FCC9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CABDE1-CCB0-4804-854A-FCA621C0E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535F0E-71FB-46C6-8009-B5E455E354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CABEA0-935C-41E7-8CF7-415AF5E8D0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6DF75-4E01-4907-B2C6-5BC437975F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CEE4A-57AC-499A-A3D5-4DDC7F9CA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F79C9-C307-418B-B7CC-9948BEEBE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C494F-CC2B-499B-AB11-9C8B3A4EB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8ABB9-EECB-4CEB-8DBD-EC0BCE6EE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A3252-B208-470D-85D6-AE7118E74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0C178-15E4-4A7C-B327-B1BE0D2CB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C743A4-D88F-4B40-A7BF-7D361E6FA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AC995-EB2F-41D4-B2B1-1E082C905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3A80F-5A11-4F23-A3E5-114411F03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20D97-F6D9-4782-9DF4-99EF9ADC7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A7F1C-6A68-4FD3-B545-B1A31F36B8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1D0ED-BDDA-47D4-ABD7-4195E22BB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1B8816-3048-4001-94DA-18A78F7E2A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5DC402-9295-4216-A791-818A07989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EE0D93-5925-4506-8755-8734DB8D7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893BCA-324D-4404-B876-6E3AD332D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F4132E-272E-4B5F-9C11-16E7AD2AB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78DEA7-88EE-46E5-9D7D-E22BD0E06F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BB951A-D275-4278-BDA5-601AD6C2992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A937-DD33-4D98-B882-F082CBC357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9589C-69A3-4003-9234-C2EA154686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19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s Assuranc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360" rIns="90360" tIns="44280" bIns="44280" anchor="t">
            <a:no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38</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7311DBA-DEC7-4707-B0A1-72E836B03F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tandards - 1</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the project is started, standards should be established for activities like requirements gathering, design development, and unit tes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should also be developed for quality control activities, like walkthroughs, reviews, and inspe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A491B7-8893-4AF8-B39D-E46CC15752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tandards - 2</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ompanies follow IEEE software engineering standards or they have their internally developed standard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should be flexible enough to be applied to large or small project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deviations from the standards should be approved by the project team and the reason for such deviation should be noted in the minutes of the project meetings</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95A834-23D8-4B25-AC0E-23680352C7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dule Monitoring - 1</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ent deadlines for the project are frequently established by management, end users, a project sponsor, or a client with no regard to the reality of achievement</a:t>
            </a:r>
            <a:endParaRPr b="0" lang="en-US" sz="28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manager is then designated to meet unrealistic expectations of the project completion date</a:t>
            </a:r>
            <a:endParaRPr b="0" lang="en-US" sz="28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is reason, the project start date, milestones, and completion date should be negotiated upfro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EAE241-87D3-4422-84B7-7A23DF792D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dule Monitoring - 2</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unrealistic date is accepted and the project activities are then made to fit within this time frame, the quality of the project certainly will suff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to an “on-time” project lies in the ability to identify the critical path before starting the proje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2C91F2-DCEE-4606-8E3D-6063C1FBE5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dule Monitoring - 3</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itical path of a project is where problems that may affect the overall schedule are faced</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systematic work breakdown structures which identify task groupings (</a:t>
            </a:r>
            <a:r>
              <a:rPr b="0" lang="en-US" sz="3200" spc="-1" strike="noStrike">
                <a:solidFill>
                  <a:srgbClr val="9999cc"/>
                </a:solidFill>
                <a:latin typeface="Arial"/>
              </a:rPr>
              <a:t>tasks that can be combined together</a:t>
            </a:r>
            <a:r>
              <a:rPr b="0" lang="en-US" sz="3200" spc="-1" strike="noStrike">
                <a:solidFill>
                  <a:srgbClr val="000000"/>
                </a:solidFill>
                <a:latin typeface="Arial"/>
              </a:rPr>
              <a:t>), task sequences, and entrance/exit criteria for each tas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232E23-221A-4D20-8064-64A6C7A3E5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dule Monitoring - 4</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fine tasks, follow the guidelines of the system development methodology used by your organiza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absence of a development methodology, obtain copies of task lists and task dependencies from other projects and customize them to suit your needs of the current proje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A736CC-72BB-476A-A8AE-DE95ADC63C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dule Monitoring - 5</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 defined work breakdown structures will assist in selecting the correct skilled resources</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same time, using the breakdown structures also ensures that no activity is forgotten</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chnique of breaking down activities into smaller tasks takes an impossibly complex project and reorganizes it into manageable pieces under the direction of the project manag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F67D50-E122-41F3-B497-44FE922D6D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dule Monitoring - 6</a:t>
            </a: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you have defined the critical path, review the tasks and schedule with the project team members and other significantly impacted individua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5AEE72-A86A-43CA-88E8-76D4820CFB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dule Monitoring - 7</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se people are the stakeholders and are affected by the project in one or more of the following way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budget is charged for all or part of the projec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artment’s resources are used by the projec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artment has either existing projects or ongoing projects that are affected by the new projec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8FD997-A6A5-40E4-A6A4-2646062816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dule Monitoring - 8</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the most common mistake of adding another resource to shorten or meet the schedu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1C37A2-ABF6-4CC3-88C8-241068A34C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Lecture</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ur discussions on software quality assurance, we have divided the quality assurance into two major aspect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related</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related</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re going to talk about process-related issues of software quality and discuss process assura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07C38D-97D5-4D39-B036-A4247E942E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Tracking</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tracking is an important activity in project manag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tracking tools should be used to monitor the progress of project schedule, and estimate resourc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55E355-5F7B-41D7-8500-3D1BE82D6F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on</a:t>
            </a: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stic estimates allow you to discuss alternative approaches at the start of the project</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s are not foolproof</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time for resource management and unforeseen events, like the illness of a team member</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e estimates, and update plan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DF9CC4-9977-4F73-808A-0C7136B6A0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Communication</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communication between the management and project team is a critical interpersonal skill</a:t>
            </a:r>
            <a:endParaRPr b="0" lang="en-US" sz="32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ing</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ing</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guidance</a:t>
            </a:r>
            <a:endParaRPr b="0" lang="en-US" sz="28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egation of responsibility</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l negoti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F5838F-AB86-42FA-B678-473B8007AC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ering Committee - 1</a:t>
            </a: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mittee responsible for defining project policy, reviewing the project milestones, and evaluating risk factors must be establish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of the committee should represent all the impacted areas of the business. They should be knowledgeable enough to make informed technological decisions and be able to change the course if need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789417-A573-4D47-8C8B-2C716E1FA7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ering Committee - 2</a:t>
            </a: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responsible for</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ing the time that will be required to maintain the system</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on the type of support required from the operations for the running of the system</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when the data will be available and how it will be managed, reported, and used</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ing a configuration control board (CCB) that manages the impact of chang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59A135-7391-48FC-82AE-052F374966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Risks - 1</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project has risks associated with them, some more than others</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eed to identify and address the risk factors upfront</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isk factors should be discussed with the project team, management, and users</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isk mitigation policy needs to be develop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7F93E0-5E32-4552-8BBD-E73325DAD3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Risks - 2</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risks can be assessed in three categori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risk</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risk</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size risk</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4AD88A-8012-4B8F-868E-9A9FB79C8F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Risks - 3</a:t>
            </a: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s can be minimized b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controls from the initiation stage and by ensuring pre-established development standards are follow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project management train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ing the scope of the project by incremental development or phased develop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DA5E10-C478-4598-935D-66AF5F4F5C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Risks - 4</a:t>
            </a: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risk is encountered when the project team utilizes a new technology like new hardware or new development methodology for the first time</a:t>
            </a:r>
            <a:endParaRPr b="0" lang="en-US" sz="3200" spc="-1" strike="noStrike">
              <a:solidFill>
                <a:srgbClr val="000000"/>
              </a:solidFill>
              <a:latin typeface="Arial"/>
            </a:endParaRPr>
          </a:p>
          <a:p>
            <a:pPr marL="322200" indent="-3222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risks can be controlled by</a:t>
            </a:r>
            <a:endParaRPr b="0" lang="en-US" sz="3200" spc="-1" strike="noStrike">
              <a:solidFill>
                <a:srgbClr val="000000"/>
              </a:solidFill>
              <a:latin typeface="Arial"/>
            </a:endParaRPr>
          </a:p>
          <a:p>
            <a:pPr lvl="1" marL="698400" indent="-2685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ointing a qualified technical project leader</a:t>
            </a:r>
            <a:endParaRPr b="0" lang="en-US" sz="2800" spc="-1" strike="noStrike">
              <a:solidFill>
                <a:srgbClr val="000000"/>
              </a:solidFill>
              <a:latin typeface="Arial"/>
            </a:endParaRPr>
          </a:p>
          <a:p>
            <a:pPr lvl="1" marL="698400" indent="-2685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a strong, independent quality control group to evaluate the progress of the project and project deliverab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F29CA8-293A-4E6A-846F-15EB5BA733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Risks - 5</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additional technical expertise from outside consultants who have expertise and the knowledge to make a difference in the ultimate quality of the projec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FC9F96-999B-4614-8F21-D1BE54D175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2062080"/>
            <a:ext cx="6019920" cy="1719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s Assurance</a:t>
            </a:r>
            <a:endParaRPr b="0" lang="en-US" sz="5000" spc="-1" strike="noStrike">
              <a:solidFill>
                <a:srgbClr val="ffffff"/>
              </a:solidFill>
              <a:latin typeface="Arial"/>
            </a:endParaRPr>
          </a:p>
        </p:txBody>
      </p:sp>
      <p:sp>
        <p:nvSpPr>
          <p:cNvPr id="11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0DFEAF3-1C8C-432E-8FFD-9726C16714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ment - 1</a:t>
            </a:r>
            <a:endParaRPr b="0" lang="en-US" sz="44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ing measurement criteria, against which each phase of the project will be evaluated, is vit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exit criteria is well defined, it is sufficient to evaluate the outcome of each phase against the exit criteria and move forwar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00BAA9-5F9A-4054-96A3-7927E4744D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ment - 2</a:t>
            </a: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outcome of each phase does not meet the performance criteria, the project manager should be able to control the project by evaluating the problems, identifying the deviations, and implementing new processes to address the devia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BE07A9-3C8C-4D9F-BAAD-C4354D5D60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ment - 3</a:t>
            </a:r>
            <a:endParaRPr b="0" lang="en-US" sz="4400" spc="-1" strike="noStrike">
              <a:solidFill>
                <a:srgbClr val="000000"/>
              </a:solidFill>
              <a:latin typeface="Arial"/>
            </a:endParaRPr>
          </a:p>
        </p:txBody>
      </p:sp>
      <p:sp>
        <p:nvSpPr>
          <p:cNvPr id="2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established quality goals for the project can also serve as criteria against which the project can be measur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A6902C-5664-4AEB-9C1B-79ECA4F32A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ment - 4</a:t>
            </a:r>
            <a:endParaRPr b="0" lang="en-US" sz="4400" spc="-1" strike="noStrike">
              <a:solidFill>
                <a:srgbClr val="000000"/>
              </a:solidFill>
              <a:latin typeface="Arial"/>
            </a:endParaRPr>
          </a:p>
        </p:txBody>
      </p:sp>
      <p:sp>
        <p:nvSpPr>
          <p:cNvPr id="21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7000"/>
          </a:bodyPr>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should be established to</a:t>
            </a:r>
            <a:endParaRPr b="0" lang="en-US" sz="32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the organization to address customer complaint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 organization statistics regarding the types of customer call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reporting and handling of customer problem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management to make staffing decisions based on the number of customer call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16E8F9-811A-4295-BC9F-BB45C14EDF7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grated Technology - 1</a:t>
            </a:r>
            <a:endParaRPr b="0" lang="en-US" sz="4400" spc="-1" strike="noStrike">
              <a:solidFill>
                <a:srgbClr val="000000"/>
              </a:solidFill>
              <a:latin typeface="Arial"/>
            </a:endParaRPr>
          </a:p>
        </p:txBody>
      </p:sp>
      <p:sp>
        <p:nvSpPr>
          <p:cNvPr id="21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y for Integrated Technology should be considered by management in relation to the other business needs</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empower the management to react to the operational needs of the business and, at the same time, take an inventory of the current status of various systems, projects, and the ability of technical staff to support any future projec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1A953D-9A8B-4EFD-8BD1-B4257829C52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grated Technology - 2</a:t>
            </a:r>
            <a:endParaRPr b="0" lang="en-US" sz="44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T trends, competitors, and demands of the customers should be visible to the managem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s of the new system that will be interfacing with existing system should be identified so that the impact can be evaluat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echnology is new and not well understood, allowances to incorporate experiments should be made in the overall project plan and schedu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2C34FB9-A1B4-47FC-950C-89E19CACA2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 of Failure in Process Assurance</a:t>
            </a: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Management Supp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User Involv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Project Leadershi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Measures of Succes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AEC24C-CC4E-492D-8A4A-B19F564CB47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Process Failure - 1</a:t>
            </a:r>
            <a:endParaRPr b="0" lang="en-US" sz="4000" spc="-1" strike="noStrike">
              <a:solidFill>
                <a:srgbClr val="000000"/>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ments consistently missed</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 deliver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minute crunch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raling cost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anagement visibility into progres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e always being surpris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7CA2C0-68F9-4E7E-ADF2-F998D61F7A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Process Failure - 2</a:t>
            </a:r>
            <a:endParaRPr b="0" lang="en-US" sz="40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problem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uch rework</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s do not work correctl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complaints after delivery</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moral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frustrat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nyone in charg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CA94AB-F8CD-4973-BA66-A15C9840C6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Misconceptions</a:t>
            </a:r>
            <a:endParaRPr b="0" lang="en-US" sz="4400" spc="-1" strike="noStrike">
              <a:solidFill>
                <a:srgbClr val="000000"/>
              </a:solidFill>
              <a:latin typeface="Arial"/>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on’t need process, I hav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ly good people</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d technology</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erience manager</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s with creativity</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s bureaucracy + regiment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n’t needed when building prototyp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only useful on large projec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nders agility in fast-moving marke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s too much</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B2B5F6-4F5C-4FA9-A00D-9C318EA99F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Assurance - 0</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assurance makes certain that the process for building and delivering software is robust and allows for the delivery and maintenance of the produ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FD6C94-93AA-48CF-9D91-0FF2353993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realizes the importance of having a motivated, quality work force but even our finest people cannot perform at their best when the process is not understood or operating at its best</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people, and technology are the major determinants of product cost, schedule, and cos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788135-8E72-410F-A810-20DDE1B87D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People, and Technology</a:t>
            </a:r>
            <a:endParaRPr b="0" lang="en-US" sz="4400" spc="-1" strike="noStrike">
              <a:solidFill>
                <a:srgbClr val="000000"/>
              </a:solidFill>
              <a:latin typeface="Arial"/>
            </a:endParaRPr>
          </a:p>
        </p:txBody>
      </p:sp>
      <p:sp>
        <p:nvSpPr>
          <p:cNvPr id="229" name=""/>
          <p:cNvSpPr/>
          <p:nvPr/>
        </p:nvSpPr>
        <p:spPr>
          <a:xfrm>
            <a:off x="2133720" y="2971800"/>
            <a:ext cx="5181480" cy="2514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245840" y="2286000"/>
            <a:ext cx="1011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a:t>
            </a:r>
            <a:endParaRPr b="0" lang="en-US" sz="2400" spc="-1" strike="noStrike">
              <a:solidFill>
                <a:srgbClr val="000000"/>
              </a:solidFill>
              <a:latin typeface="Times New Roman"/>
            </a:endParaRPr>
          </a:p>
        </p:txBody>
      </p:sp>
      <p:sp>
        <p:nvSpPr>
          <p:cNvPr id="231" name=""/>
          <p:cNvSpPr/>
          <p:nvPr/>
        </p:nvSpPr>
        <p:spPr>
          <a:xfrm>
            <a:off x="1601280" y="5832360"/>
            <a:ext cx="111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232" name=""/>
          <p:cNvSpPr/>
          <p:nvPr/>
        </p:nvSpPr>
        <p:spPr>
          <a:xfrm>
            <a:off x="6439320" y="58323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DF2679E-FA95-4EF0-B18A-96855BBA0D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ality of a system is highly influenced by the quality of the process used to acquire, develop, and maintain i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process is often described as a node of the process-people-technology triad, it can also be considered the “glue” that ties the triad togeth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78F8D0-4541-4DDE-9565-7E0A20DA72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roads to Software Quality by Alka Jarvis and Vern Crandall (Chapter 1)</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Quality: Analysis and Guidelines for Success by Capers Jon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F58FAC-F732-47DB-BD4A-DF772F1ADDC1}"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Assurance - 1</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assurance consists of the collective activities carried out while developing a product to ensure that the methods and techniques used are integrated, consistent, and correctly applied</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s is given to cost, time, technical requirements, testing measurements, and prototyp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62EAC2-80CB-40DF-AAD7-F657E2F504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Assurance - 2</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assurance involves the interrelationships of several different components. Depending on how these are managed, they can have a major positive impact on the products</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an effective process assurance program is put in place and shown to be beneficial, then emphasis can be placed in making verification and validation strategies effective and in improving the quality of the produc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D9B59C-E2C4-4580-AADD-D760B00A68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Assurance - 3</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ful process assurance is based on planning and organiz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important aspects of planning and organization that must be considered before starting the proj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 show you a picture, which captures the components of planning and organiz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87738B-581E-411B-9B18-D25FFA9FF3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Planning and Organization</a:t>
            </a:r>
            <a:endParaRPr b="0" lang="en-US" sz="4400" spc="-1" strike="noStrike">
              <a:solidFill>
                <a:srgbClr val="000000"/>
              </a:solidFill>
              <a:latin typeface="Arial"/>
            </a:endParaRPr>
          </a:p>
        </p:txBody>
      </p:sp>
      <p:grpSp>
        <p:nvGrpSpPr>
          <p:cNvPr id="121" name=""/>
          <p:cNvGrpSpPr/>
          <p:nvPr/>
        </p:nvGrpSpPr>
        <p:grpSpPr>
          <a:xfrm>
            <a:off x="3054240" y="4100400"/>
            <a:ext cx="3340080" cy="465120"/>
            <a:chOff x="3054240" y="4100400"/>
            <a:chExt cx="3340080" cy="465120"/>
          </a:xfrm>
        </p:grpSpPr>
        <p:sp>
          <p:nvSpPr>
            <p:cNvPr id="122" name=""/>
            <p:cNvSpPr/>
            <p:nvPr/>
          </p:nvSpPr>
          <p:spPr>
            <a:xfrm>
              <a:off x="3054240" y="4121280"/>
              <a:ext cx="334008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05360" y="4100400"/>
              <a:ext cx="3250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ning &amp; Organization</a:t>
              </a:r>
              <a:endParaRPr b="0" lang="en-US" sz="2400" spc="-1" strike="noStrike">
                <a:solidFill>
                  <a:srgbClr val="000000"/>
                </a:solidFill>
                <a:latin typeface="Times New Roman"/>
              </a:endParaRPr>
            </a:p>
          </p:txBody>
        </p:sp>
      </p:grpSp>
      <p:grpSp>
        <p:nvGrpSpPr>
          <p:cNvPr id="124" name=""/>
          <p:cNvGrpSpPr/>
          <p:nvPr/>
        </p:nvGrpSpPr>
        <p:grpSpPr>
          <a:xfrm>
            <a:off x="2825640" y="2444760"/>
            <a:ext cx="1130400" cy="673200"/>
            <a:chOff x="2825640" y="2444760"/>
            <a:chExt cx="1130400" cy="673200"/>
          </a:xfrm>
        </p:grpSpPr>
        <p:sp>
          <p:nvSpPr>
            <p:cNvPr id="125" name=""/>
            <p:cNvSpPr/>
            <p:nvPr/>
          </p:nvSpPr>
          <p:spPr>
            <a:xfrm>
              <a:off x="2825640" y="2444760"/>
              <a:ext cx="113040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01040" y="2562120"/>
              <a:ext cx="6127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a:t>
              </a:r>
              <a:endParaRPr b="0" lang="en-US" sz="1200" spc="-1" strike="noStrike">
                <a:solidFill>
                  <a:srgbClr val="000000"/>
                </a:solidFill>
                <a:latin typeface="Times New Roman"/>
              </a:endParaRPr>
            </a:p>
          </p:txBody>
        </p:sp>
      </p:grpSp>
      <p:grpSp>
        <p:nvGrpSpPr>
          <p:cNvPr id="127" name=""/>
          <p:cNvGrpSpPr/>
          <p:nvPr/>
        </p:nvGrpSpPr>
        <p:grpSpPr>
          <a:xfrm>
            <a:off x="4273560" y="2444760"/>
            <a:ext cx="1130400" cy="673200"/>
            <a:chOff x="4273560" y="2444760"/>
            <a:chExt cx="1130400" cy="673200"/>
          </a:xfrm>
        </p:grpSpPr>
        <p:sp>
          <p:nvSpPr>
            <p:cNvPr id="128" name=""/>
            <p:cNvSpPr/>
            <p:nvPr/>
          </p:nvSpPr>
          <p:spPr>
            <a:xfrm>
              <a:off x="4273560" y="2444760"/>
              <a:ext cx="113040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62920" y="2562120"/>
              <a:ext cx="7819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a:t>
              </a:r>
              <a:endParaRPr b="0" lang="en-US" sz="1200" spc="-1" strike="noStrike">
                <a:solidFill>
                  <a:srgbClr val="000000"/>
                </a:solidFill>
                <a:latin typeface="Times New Roman"/>
              </a:endParaRPr>
            </a:p>
          </p:txBody>
        </p:sp>
      </p:grpSp>
      <p:grpSp>
        <p:nvGrpSpPr>
          <p:cNvPr id="130" name=""/>
          <p:cNvGrpSpPr/>
          <p:nvPr/>
        </p:nvGrpSpPr>
        <p:grpSpPr>
          <a:xfrm>
            <a:off x="5721480" y="2444760"/>
            <a:ext cx="1130040" cy="673200"/>
            <a:chOff x="5721480" y="2444760"/>
            <a:chExt cx="1130040" cy="673200"/>
          </a:xfrm>
        </p:grpSpPr>
        <p:sp>
          <p:nvSpPr>
            <p:cNvPr id="131" name=""/>
            <p:cNvSpPr/>
            <p:nvPr/>
          </p:nvSpPr>
          <p:spPr>
            <a:xfrm>
              <a:off x="5721480" y="2444760"/>
              <a:ext cx="113004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862600" y="256212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a:t>
              </a:r>
              <a:endParaRPr b="0" lang="en-US" sz="1200" spc="-1" strike="noStrike">
                <a:solidFill>
                  <a:srgbClr val="000000"/>
                </a:solidFill>
                <a:latin typeface="Times New Roman"/>
              </a:endParaRPr>
            </a:p>
          </p:txBody>
        </p:sp>
      </p:grpSp>
      <p:grpSp>
        <p:nvGrpSpPr>
          <p:cNvPr id="133" name=""/>
          <p:cNvGrpSpPr/>
          <p:nvPr/>
        </p:nvGrpSpPr>
        <p:grpSpPr>
          <a:xfrm>
            <a:off x="2825640" y="5492880"/>
            <a:ext cx="1130400" cy="672840"/>
            <a:chOff x="2825640" y="5492880"/>
            <a:chExt cx="1130400" cy="672840"/>
          </a:xfrm>
        </p:grpSpPr>
        <p:sp>
          <p:nvSpPr>
            <p:cNvPr id="134" name=""/>
            <p:cNvSpPr/>
            <p:nvPr/>
          </p:nvSpPr>
          <p:spPr>
            <a:xfrm>
              <a:off x="2825640" y="5492880"/>
              <a:ext cx="1130400" cy="672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02840" y="5610240"/>
              <a:ext cx="6127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s</a:t>
              </a:r>
              <a:endParaRPr b="0" lang="en-US" sz="1200" spc="-1" strike="noStrike">
                <a:solidFill>
                  <a:srgbClr val="000000"/>
                </a:solidFill>
                <a:latin typeface="Times New Roman"/>
              </a:endParaRPr>
            </a:p>
          </p:txBody>
        </p:sp>
      </p:grpSp>
      <p:grpSp>
        <p:nvGrpSpPr>
          <p:cNvPr id="136" name=""/>
          <p:cNvGrpSpPr/>
          <p:nvPr/>
        </p:nvGrpSpPr>
        <p:grpSpPr>
          <a:xfrm>
            <a:off x="4273560" y="5492880"/>
            <a:ext cx="1130400" cy="672840"/>
            <a:chOff x="4273560" y="5492880"/>
            <a:chExt cx="1130400" cy="672840"/>
          </a:xfrm>
        </p:grpSpPr>
        <p:sp>
          <p:nvSpPr>
            <p:cNvPr id="137" name=""/>
            <p:cNvSpPr/>
            <p:nvPr/>
          </p:nvSpPr>
          <p:spPr>
            <a:xfrm>
              <a:off x="4273560" y="5492880"/>
              <a:ext cx="1130400" cy="672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423680" y="5610240"/>
              <a:ext cx="8596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er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ittee</a:t>
              </a:r>
              <a:endParaRPr b="0" lang="en-US" sz="1200" spc="-1" strike="noStrike">
                <a:solidFill>
                  <a:srgbClr val="000000"/>
                </a:solidFill>
                <a:latin typeface="Times New Roman"/>
              </a:endParaRPr>
            </a:p>
          </p:txBody>
        </p:sp>
      </p:grpSp>
      <p:grpSp>
        <p:nvGrpSpPr>
          <p:cNvPr id="139" name=""/>
          <p:cNvGrpSpPr/>
          <p:nvPr/>
        </p:nvGrpSpPr>
        <p:grpSpPr>
          <a:xfrm>
            <a:off x="5719320" y="5492880"/>
            <a:ext cx="1164600" cy="672840"/>
            <a:chOff x="5719320" y="5492880"/>
            <a:chExt cx="1164600" cy="672840"/>
          </a:xfrm>
        </p:grpSpPr>
        <p:sp>
          <p:nvSpPr>
            <p:cNvPr id="140" name=""/>
            <p:cNvSpPr/>
            <p:nvPr/>
          </p:nvSpPr>
          <p:spPr>
            <a:xfrm>
              <a:off x="5721480" y="5492880"/>
              <a:ext cx="1130040" cy="672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719320" y="5610240"/>
              <a:ext cx="11646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a:t>
              </a:r>
              <a:endParaRPr b="0" lang="en-US" sz="1200" spc="-1" strike="noStrike">
                <a:solidFill>
                  <a:srgbClr val="000000"/>
                </a:solidFill>
                <a:latin typeface="Times New Roman"/>
              </a:endParaRPr>
            </a:p>
          </p:txBody>
        </p:sp>
      </p:grpSp>
      <p:grpSp>
        <p:nvGrpSpPr>
          <p:cNvPr id="142" name=""/>
          <p:cNvGrpSpPr/>
          <p:nvPr/>
        </p:nvGrpSpPr>
        <p:grpSpPr>
          <a:xfrm>
            <a:off x="1378080" y="3206880"/>
            <a:ext cx="1130040" cy="672840"/>
            <a:chOff x="1378080" y="3206880"/>
            <a:chExt cx="1130040" cy="672840"/>
          </a:xfrm>
        </p:grpSpPr>
        <p:sp>
          <p:nvSpPr>
            <p:cNvPr id="143" name=""/>
            <p:cNvSpPr/>
            <p:nvPr/>
          </p:nvSpPr>
          <p:spPr>
            <a:xfrm>
              <a:off x="1378080" y="3206880"/>
              <a:ext cx="1130040" cy="672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504800" y="3324240"/>
              <a:ext cx="9082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a:t>
              </a:r>
              <a:endParaRPr b="0" lang="en-US" sz="1200" spc="-1" strike="noStrike">
                <a:solidFill>
                  <a:srgbClr val="000000"/>
                </a:solidFill>
                <a:latin typeface="Times New Roman"/>
              </a:endParaRPr>
            </a:p>
          </p:txBody>
        </p:sp>
      </p:grpSp>
      <p:grpSp>
        <p:nvGrpSpPr>
          <p:cNvPr id="145" name=""/>
          <p:cNvGrpSpPr/>
          <p:nvPr/>
        </p:nvGrpSpPr>
        <p:grpSpPr>
          <a:xfrm>
            <a:off x="1378080" y="4654440"/>
            <a:ext cx="1130040" cy="673200"/>
            <a:chOff x="1378080" y="4654440"/>
            <a:chExt cx="1130040" cy="673200"/>
          </a:xfrm>
        </p:grpSpPr>
        <p:sp>
          <p:nvSpPr>
            <p:cNvPr id="146" name=""/>
            <p:cNvSpPr/>
            <p:nvPr/>
          </p:nvSpPr>
          <p:spPr>
            <a:xfrm>
              <a:off x="1378080" y="4654440"/>
              <a:ext cx="113004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454400" y="4772160"/>
              <a:ext cx="100908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a:t>
              </a:r>
              <a:endParaRPr b="0" lang="en-US" sz="1200" spc="-1" strike="noStrike">
                <a:solidFill>
                  <a:srgbClr val="000000"/>
                </a:solidFill>
                <a:latin typeface="Times New Roman"/>
              </a:endParaRPr>
            </a:p>
          </p:txBody>
        </p:sp>
      </p:grpSp>
      <p:grpSp>
        <p:nvGrpSpPr>
          <p:cNvPr id="148" name=""/>
          <p:cNvGrpSpPr/>
          <p:nvPr/>
        </p:nvGrpSpPr>
        <p:grpSpPr>
          <a:xfrm>
            <a:off x="7245360" y="3206880"/>
            <a:ext cx="1130400" cy="672840"/>
            <a:chOff x="7245360" y="3206880"/>
            <a:chExt cx="1130400" cy="672840"/>
          </a:xfrm>
        </p:grpSpPr>
        <p:sp>
          <p:nvSpPr>
            <p:cNvPr id="149" name=""/>
            <p:cNvSpPr/>
            <p:nvPr/>
          </p:nvSpPr>
          <p:spPr>
            <a:xfrm>
              <a:off x="7245360" y="3206880"/>
              <a:ext cx="1130400" cy="672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461360" y="3324240"/>
              <a:ext cx="7300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ing</a:t>
              </a:r>
              <a:endParaRPr b="0" lang="en-US" sz="1200" spc="-1" strike="noStrike">
                <a:solidFill>
                  <a:srgbClr val="000000"/>
                </a:solidFill>
                <a:latin typeface="Times New Roman"/>
              </a:endParaRPr>
            </a:p>
          </p:txBody>
        </p:sp>
      </p:grpSp>
      <p:grpSp>
        <p:nvGrpSpPr>
          <p:cNvPr id="151" name=""/>
          <p:cNvGrpSpPr/>
          <p:nvPr/>
        </p:nvGrpSpPr>
        <p:grpSpPr>
          <a:xfrm>
            <a:off x="7245360" y="4654440"/>
            <a:ext cx="1130400" cy="673200"/>
            <a:chOff x="7245360" y="4654440"/>
            <a:chExt cx="1130400" cy="673200"/>
          </a:xfrm>
        </p:grpSpPr>
        <p:sp>
          <p:nvSpPr>
            <p:cNvPr id="152" name=""/>
            <p:cNvSpPr/>
            <p:nvPr/>
          </p:nvSpPr>
          <p:spPr>
            <a:xfrm>
              <a:off x="7245360" y="4654440"/>
              <a:ext cx="113040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404840" y="4772160"/>
              <a:ext cx="84276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ing</a:t>
              </a:r>
              <a:endParaRPr b="0" lang="en-US" sz="1200" spc="-1" strike="noStrike">
                <a:solidFill>
                  <a:srgbClr val="000000"/>
                </a:solidFill>
                <a:latin typeface="Times New Roman"/>
              </a:endParaRPr>
            </a:p>
          </p:txBody>
        </p:sp>
      </p:grpSp>
      <p:sp>
        <p:nvSpPr>
          <p:cNvPr id="154" name=""/>
          <p:cNvSpPr/>
          <p:nvPr/>
        </p:nvSpPr>
        <p:spPr>
          <a:xfrm>
            <a:off x="3429000" y="3124080"/>
            <a:ext cx="6094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4571640" y="3124080"/>
            <a:ext cx="30492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5867280" y="3124080"/>
            <a:ext cx="45720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6400800" y="3581280"/>
            <a:ext cx="83808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flipV="1">
            <a:off x="6400800" y="4419360"/>
            <a:ext cx="83808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514600" y="3581280"/>
            <a:ext cx="53352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2514600" y="4419360"/>
            <a:ext cx="5335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3352680" y="4572000"/>
            <a:ext cx="3049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800600" y="457200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5638680" y="4572000"/>
            <a:ext cx="60984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D285116-DEA4-4C46-973C-5C2C653F01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Team</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team is the project manager’s only means of reaching the project goal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ion of project team is vital to succes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the team depends on the size and complexity of the project</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ix of technical knowledge and experience</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ing of mutual respect within team and maintains good moral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75A93B-1500-40DD-994F-07204EA180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09:14:26Z</dcterms:created>
  <dc:creator>Ghulam Ahmad Farrukh</dc:creator>
  <dc:description/>
  <dc:language>en-US</dc:language>
  <cp:lastModifiedBy>abasit</cp:lastModifiedBy>
  <dcterms:modified xsi:type="dcterms:W3CDTF">2009-07-31T09:48:13Z</dcterms:modified>
  <cp:revision>65</cp:revision>
  <dc:subject/>
  <dc:title>Process Assurance</dc:title>
</cp:coreProperties>
</file>